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1AF5-056E-4BD3-944B-8DE05161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274-2A9C-4531-86B7-BA73F81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836-C850-4254-93FB-625159EF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05D-F2AB-4EA8-B4F8-895382C5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0C6E-2CF7-406E-AF1F-5BBC4712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BFF-58AD-4417-8B29-D4F5B2DC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816-458A-463E-8CDD-1F1BB027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0AB-CEDA-4E22-9E93-B37CF2C8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5283-9100-4A2F-AB28-FBF732E4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FA3-C646-4268-AFB3-BB2E8E21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6CEF-A4D4-47CE-AAD8-DC77A4B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135-0DBB-4638-BB87-B1CC415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7B9F-4F82-4258-B7C8-9C457EE0066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F02AE05B-8E60-4C72-971F-4E81CA86D03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46200" y="1486080"/>
          <a:ext cx="6008760" cy="1006200"/>
        </p:xfrm>
        <a:graphic>
          <a:graphicData uri="http://schemas.openxmlformats.org/drawingml/2006/table">
            <a:tbl>
              <a:tblPr/>
              <a:tblGrid>
                <a:gridCol w="3606840"/>
                <a:gridCol w="24019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υνα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am able (t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ει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li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θ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– I s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ἰδ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– I kn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24"/>
          <p:cNvSpPr/>
          <p:nvPr/>
        </p:nvSpPr>
        <p:spPr>
          <a:xfrm>
            <a:off x="0" y="321480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sent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state arising from past a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Perfect 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st:      Past state arising from action in further p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e Pluperfect end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59D51D43-DC63-497A-98DF-4140D598BE0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57120" y="1714680"/>
            <a:ext cx="8229600" cy="36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ἐξεστ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irregular and is normally followed by a dative. For example: Matt 14.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κ ἐξεστ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σο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 ἐχειν αὐτη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'It is not lawfu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or 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to have her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When translat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t is often sensible to rephrase 'it is necessary' (which one hardly ever says in English) to some form of 'must'. (N.B. there is no word in Greek for 'must'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δ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used inste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2286000" y="1104840"/>
            <a:ext cx="4572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2 Result Cla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219320" y="1714680"/>
            <a:ext cx="6705360" cy="627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500" spc="-1" strike="noStrike">
                <a:solidFill>
                  <a:srgbClr val="ffffff"/>
                </a:solidFill>
                <a:latin typeface="Gentium"/>
              </a:rPr>
              <a:t>ὡστε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+ Infinitive = res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2920" y="2401920"/>
            <a:ext cx="880092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tthew 15.30-1: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και ἐθεραπευσεν αὐτους∙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ὡστε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τον ὀχλον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θαυμασαι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nd he healed them,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th the resul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the crowd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a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amaz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Mark 15.5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: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ὁ δε Ἰησους οὐκετι οὐδεν ἀπεκριθη, </a:t>
            </a:r>
            <a:r>
              <a:rPr b="0" lang="el-GR" sz="2600" spc="-1" strike="noStrike" u="sng">
                <a:solidFill>
                  <a:srgbClr val="ffffff"/>
                </a:solidFill>
                <a:uFillTx/>
                <a:latin typeface="Gentium"/>
              </a:rPr>
              <a:t>ὡστε θαυμαζειν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Gentium"/>
              </a:rPr>
              <a:t>τον Πιλατον</a:t>
            </a:r>
            <a:r>
              <a:rPr b="0" lang="en-GB" sz="26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But Jesus answered nothing further,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th the result that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ilate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as amaz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26C1DE3E-8AE4-466D-A9A1-8569026BAC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2057400" y="114300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3 Purpos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85840" y="1643040"/>
            <a:ext cx="8572320" cy="47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de 14: 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ου ἠλθεν κυρι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οιησ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ρισιν κατα παντ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hold, the Lord is coming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execu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lit: do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dgment against 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14-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ποιησεν δωδεκ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ἱνα ὠσ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μετ’ αὐτου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ἱνα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ποστελλ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αὐτου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κυρυσσ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χ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ξουσια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βαλλει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α δαιμονι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He made (the) twel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 order (for them) to b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m and so that he might send them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pre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uthorit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o cast ou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dem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C0BCD372-7B69-469B-AA49-5AE77BA592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7A1878E4-8489-4442-8C7B-A2BA33D185B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828800" y="1300320"/>
            <a:ext cx="5486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4 Articular Infinitive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01760" y="2017800"/>
          <a:ext cx="9028080" cy="914400"/>
        </p:xfrm>
        <a:graphic>
          <a:graphicData uri="http://schemas.openxmlformats.org/drawingml/2006/table">
            <a:tbl>
              <a:tblPr/>
              <a:tblGrid>
                <a:gridCol w="2384280"/>
                <a:gridCol w="525600"/>
                <a:gridCol w="611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jud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 κρινειν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 activity of/the fact of) judg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e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 ἐσθιειν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 activity of/the fact of) eat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28760" y="3286080"/>
          <a:ext cx="8196120" cy="2286000"/>
        </p:xfrm>
        <a:graphic>
          <a:graphicData uri="http://schemas.openxmlformats.org/drawingml/2006/table">
            <a:tbl>
              <a:tblPr/>
              <a:tblGrid>
                <a:gridCol w="3340080"/>
                <a:gridCol w="4856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ι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caus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τ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πρ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acc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 a view to / aiming at / leading 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ρ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ing / whi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55FF75E6-CD5B-4BF4-B8C1-C0202BB7D8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19040" y="1357200"/>
            <a:ext cx="815364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Jas. 4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οὐκ ἐχετ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α το μη αἰτεισθαι ὑμ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do not h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ecause you do not as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on account of the fact of you not as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tt. 26.3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μετα δε το ἐγερθηναι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προαξω ὑμας εἰς την Γαλιλαι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fter I have been rais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 will go head of you into Galil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lit: after the activity of me being rais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42717075-751F-4657-A2E2-23B348D54B2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42920" y="1332000"/>
            <a:ext cx="8724960" cy="49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 Cor. 1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ὁ παρακαλων ἡμας ἐπι πασῃ τῃ θλιψει ἡμ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εἰς τ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δυνασθα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ἡμα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παρακαλειν τους ἐν πασῃ θλιψ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encouraging us in all our suffering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o that we might</a:t>
            </a: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ble 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courage those who are in any suffering. (lit: with a view to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activity of us being 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l. 2.12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προ του γαρ ἐλθειν τινα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ἀπο Ἰακωβου μετα των ἐθνω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υνησθι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or before some people cam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rom James, he used to ea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ith the Gentiles. (lit: before the fact of some people com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4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αι ἐγενετ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ἐν τῳ σπειρε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ὃ μεν ἐπεσεν παρα την ὁδ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s he sow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me fell alongside the path. (lit: in th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ity of sowing 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86260AD7-F9FA-4976-9451-70B8C0E4E1E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295280" y="1500120"/>
            <a:ext cx="655344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Person Imperatives = 'Let …'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8280" y="2822400"/>
          <a:ext cx="8929800" cy="1951200"/>
        </p:xfrm>
        <a:graphic>
          <a:graphicData uri="http://schemas.openxmlformats.org/drawingml/2006/table">
            <a:tbl>
              <a:tblPr/>
              <a:tblGrid>
                <a:gridCol w="928800"/>
                <a:gridCol w="1428840"/>
                <a:gridCol w="1571400"/>
                <a:gridCol w="1643400"/>
                <a:gridCol w="1714320"/>
                <a:gridCol w="164304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ε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ασθ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ε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ασθ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ωσα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343080" y="1204920"/>
            <a:ext cx="842940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endings are very distinctive: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ingular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σα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l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tandard distinctive features are visible: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Active and Middle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the Aorist Passi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57120" y="3271680"/>
            <a:ext cx="8358120" cy="27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4.23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 τις ἐχει ὠτα ἀκουειν ἀκουετ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f someone has ears to hear, he should he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6.1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η οὐν βασιλευετω ἡ ἁμαρτια ἐν τῳ θνητ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ὑμων σω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herefore sin should not reign in your mortal bod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649FD8C8-16E1-4BCC-BD6E-92807DBA1BA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3 THIRD PERSON IMPER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8D1C6BB0-244F-4B2B-953A-5AC1FCDD225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760" y="1571760"/>
          <a:ext cx="8610480" cy="4114800"/>
        </p:xfrm>
        <a:graphic>
          <a:graphicData uri="http://schemas.openxmlformats.org/drawingml/2006/table">
            <a:tbl>
              <a:tblPr/>
              <a:tblGrid>
                <a:gridCol w="2162160"/>
                <a:gridCol w="1023840"/>
                <a:gridCol w="623880"/>
                <a:gridCol w="3106800"/>
                <a:gridCol w="16938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43FD14DB-96E9-4BF3-919B-E6A6CF84009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87200" y="1289160"/>
          <a:ext cx="8739360" cy="4800600"/>
        </p:xfrm>
        <a:graphic>
          <a:graphicData uri="http://schemas.openxmlformats.org/drawingml/2006/table">
            <a:tbl>
              <a:tblPr/>
              <a:tblGrid>
                <a:gridCol w="1598760"/>
                <a:gridCol w="1401840"/>
                <a:gridCol w="500040"/>
                <a:gridCol w="3357360"/>
                <a:gridCol w="1881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cipal Par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the parts of the Ver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σα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 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Middle/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Μ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perfect Middle/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4FB479AB-5771-495A-8735-9502C1179B7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52280" y="1181160"/>
            <a:ext cx="5486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υναμαι, καθημαι, κειμ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6200" y="1886040"/>
          <a:ext cx="8894880" cy="4114800"/>
        </p:xfrm>
        <a:graphic>
          <a:graphicData uri="http://schemas.openxmlformats.org/drawingml/2006/table">
            <a:tbl>
              <a:tblPr/>
              <a:tblGrid>
                <a:gridCol w="1487520"/>
                <a:gridCol w="1500480"/>
                <a:gridCol w="1271520"/>
                <a:gridCol w="1612800"/>
                <a:gridCol w="1623960"/>
                <a:gridCol w="1398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θ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α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δυνα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αθη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ε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τ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σθαι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θη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ειμενος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92CDC843-CD02-465C-88EF-05D60C094AF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RINCIPAL PAR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2813040"/>
          <a:ext cx="9205920" cy="3322800"/>
        </p:xfrm>
        <a:graphic>
          <a:graphicData uri="http://schemas.openxmlformats.org/drawingml/2006/table">
            <a:tbl>
              <a:tblPr/>
              <a:tblGrid>
                <a:gridCol w="1478160"/>
                <a:gridCol w="1220760"/>
                <a:gridCol w="4125960"/>
                <a:gridCol w="2381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ls you that, for exampl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Im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λομ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Future Act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Aorist Active 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nd -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nding points out that it has a 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erfect Participl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ω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3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Perfect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Future Passiv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ληθησομεθ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57120" y="1297080"/>
          <a:ext cx="8429760" cy="1158840"/>
        </p:xfrm>
        <a:graphic>
          <a:graphicData uri="http://schemas.openxmlformats.org/drawingml/2006/table">
            <a:tbl>
              <a:tblPr/>
              <a:tblGrid>
                <a:gridCol w="1405080"/>
                <a:gridCol w="1403280"/>
                <a:gridCol w="1407960"/>
                <a:gridCol w="1403640"/>
                <a:gridCol w="1455480"/>
                <a:gridCol w="135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Ac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κ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εβλη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55E99502-4CB4-4D61-9FFA-EFD7EF45BB2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2920" y="1214280"/>
            <a:ext cx="97250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time distinctions: future, present,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ree 'aspects'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ocess – the action is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defined – the action is considered in itself,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out reference to continuation or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leted – the action is comple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96840"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 tenses function differently in the different mo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s – time and 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ticiples – relative time (relative to the main ve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 moods – aspect on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232AA9FD-246A-4C71-900A-13EEDDAF6FB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SPECT AND TIME IN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440" y="1230480"/>
          <a:ext cx="8763120" cy="3127320"/>
        </p:xfrm>
        <a:graphic>
          <a:graphicData uri="http://schemas.openxmlformats.org/drawingml/2006/table">
            <a:tbl>
              <a:tblPr/>
              <a:tblGrid>
                <a:gridCol w="1430280"/>
                <a:gridCol w="1231920"/>
                <a:gridCol w="495360"/>
                <a:gridCol w="1666800"/>
                <a:gridCol w="1994040"/>
                <a:gridCol w="194472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(or Undefin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Text Box 223"/>
          <p:cNvSpPr/>
          <p:nvPr/>
        </p:nvSpPr>
        <p:spPr>
          <a:xfrm>
            <a:off x="142920" y="4387680"/>
            <a:ext cx="8786880" cy="26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imultaneous/sequence is very similar to process/undef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Indicative can be dominated by aspect, (e.g. Romans 3.23: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παντες γαρ ἡματον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 but normally time (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alongsid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spect) is very import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augment marks out past time – hence it occurs in the Imperfect and Aorist in the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ndicativ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F918F604-D0A1-47A0-BC7C-7036F9BE072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52560" y="2057400"/>
          <a:ext cx="7238880" cy="35211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a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ἰ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ᾐ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Text Box 143"/>
          <p:cNvSpPr/>
          <p:nvPr/>
        </p:nvSpPr>
        <p:spPr>
          <a:xfrm>
            <a:off x="762120" y="1371600"/>
            <a:ext cx="251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ἰδα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620CF20A-3256-4908-A72D-DE23830A3E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84120" y="1531800"/>
            <a:ext cx="8358120" cy="19177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of the form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ἰδα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easily confused with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ρα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 see).  Remember that augments are lost in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7240" y="3840120"/>
          <a:ext cx="7715520" cy="1874880"/>
        </p:xfrm>
        <a:graphic>
          <a:graphicData uri="http://schemas.openxmlformats.org/drawingml/2006/table">
            <a:tbl>
              <a:tblPr/>
              <a:tblGrid>
                <a:gridCol w="2598840"/>
                <a:gridCol w="1758960"/>
                <a:gridCol w="1643040"/>
                <a:gridCol w="1714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 – 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δ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ᾐδ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(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ε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ἰδ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BFEC59F6-1642-4A3D-AE6A-15E8DF1BECD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4200" y="1474920"/>
            <a:ext cx="8929800" cy="45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s. 2.1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να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ἡ πιστις σωσαι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o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b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save him, is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2.3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ὁ κυριος τῳ κυριῳ μου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θου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κ δεξιων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lord said to my lor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i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 my right.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28.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ὐκ ἐστιν ὡδε, ἠγερθη γαρ καθως εἰπεν∙ δευ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ἰδετε τον τοπον ὁπου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κει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is not here, for he has been raised just as he said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e see the place wher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l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E9CB3B78-234D-4730-8B84-D3ECD1F1DD9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241200" y="44280"/>
            <a:ext cx="86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1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δυναμαι, καθημαι, κειμα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οἰδ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42920" y="1177920"/>
            <a:ext cx="877248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v. 4.2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εὐθεως ἐγενομην ἐν πνευματι, και ἰδου θρονος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ἐκειτο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ἐν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τῳ οὐρανῳ, και ἐπι τον θρονον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καθημεν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Immediately I was in the spirit, and behold a thron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ly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in heaven, and one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sitt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on the thron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3 John 12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και ἡμεις δε μαρτυρουμεν, και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οἰδα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ὁτι ἡ μαρτυρια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ἡμων ἀληθης ἐστι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We also testify, and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you know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our testimony is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rue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2 Cor. 4.14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εἰδο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ὁτι ὁ ἐγειρας τνο κυριον Ἰησουν και ἡμας συν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Ἰησου ἐγερεῖ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Knowing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that the one who raised the Lord Jesus will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ise us also with Jesu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8698E37C-AC57-448F-ABDE-FDAE069C123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71600" y="1643040"/>
            <a:ext cx="64008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8.2.1  After certain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5680" y="2849400"/>
          <a:ext cx="9001080" cy="1508400"/>
        </p:xfrm>
        <a:graphic>
          <a:graphicData uri="http://schemas.openxmlformats.org/drawingml/2006/table">
            <a:tbl>
              <a:tblPr/>
              <a:tblGrid>
                <a:gridCol w="1379520"/>
                <a:gridCol w="3121200"/>
                <a:gridCol w="1233360"/>
                <a:gridCol w="3267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(was) necess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ξε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law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υνα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ε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intend / am about (t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C14123D3-6B37-4703-BCEA-077B4741F3D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42920" y="1143000"/>
            <a:ext cx="8786880" cy="52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ev. 1.19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γραψον οὐν ἁ εἰδες και ἁ εἰσιν και ἁ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μελλει γενεσθαι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μετα ταυτ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fore write what you see and what is and what is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about to happen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after these thing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Gal. 4.21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εγετε μοι, οἱ ὑπο νομον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θελοντες εἰναι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, τον νομον οὐκ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κουετε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ll me, you who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wish to b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under the law, don't you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listen to the law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1 Cor. 10.23: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ντα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ἐξεστιν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ἀλλ’ οὐ παντα οἰκοδομει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Everything </a:t>
            </a:r>
            <a:r>
              <a:rPr b="0" lang="en-GB" sz="2300" spc="-1" strike="noStrike" u="sng">
                <a:solidFill>
                  <a:srgbClr val="ffffff"/>
                </a:solidFill>
                <a:uFillTx/>
                <a:latin typeface="Arial"/>
              </a:rPr>
              <a:t>is permitted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ut not everything builds up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638360" y="1928880"/>
            <a:ext cx="58672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'subject of an Infinitive' goes in the 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14200" y="1214280"/>
            <a:ext cx="9001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wan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messeng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depart –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ε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ἀγγελο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ελθ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98280" y="3143160"/>
            <a:ext cx="90014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 8.3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υἱο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υ ἀνθρωπου πολλα παθ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f man must suffer greatly (lit: it is necessar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e s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f man to suffer greatl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om. 16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ελω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ὑμ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σοφους εἰναι εἰς το ἀγα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wan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o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be wise towards the good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8:Grammar </a:t>
            </a:r>
            <a:fld id="{161587DA-E9E4-4B87-8190-4C215CBACA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6028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8.2 USE OF INFINI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1:42:24Z</dcterms:created>
  <dc:creator>Sarah</dc:creator>
  <dc:description/>
  <dc:language>en-US</dc:language>
  <cp:lastModifiedBy>Sarah</cp:lastModifiedBy>
  <dcterms:modified xsi:type="dcterms:W3CDTF">2009-03-20T14:12:24Z</dcterms:modified>
  <cp:revision>52</cp:revision>
  <dc:subject/>
  <dc:title>Slide 1</dc:title>
</cp:coreProperties>
</file>